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DDE0-76A0-48B5-BC65-B16DE1B80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B0FA-E345-40B8-83B9-74128FEEE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8026-2C42-46FD-9461-D52ED54EF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06E8-A695-4E09-8948-47B4058D9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D06E-80DF-45AF-823F-A92E2C4BE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6CA0-8E02-4AE7-8BF1-4987710E2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F631-E126-4758-9481-B79CDF0D0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250A-5B2F-40EC-A9D3-5712C50A7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27FD-B3F4-46A3-B2A7-C69B80CEA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03F1-3403-4B22-A411-68682344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9B5F-08FE-4540-93A5-9DD999CC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1F3C-136B-478D-BC38-5B91F0C4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862DD-AEEF-402F-A99F-E2027A73BA0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d7d7ff"/>
                </a:solidFill>
                <a:latin typeface="Times New Roman"/>
                <a:cs typeface="ALAWI-3-4"/>
              </a:rPr>
              <a:t>النصيحة بجمل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11280" y="3645000"/>
            <a:ext cx="417672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3333cc"/>
                </a:solidFill>
                <a:latin typeface="Times New Roman"/>
                <a:cs typeface="FS_Free"/>
              </a:rPr>
              <a:t>الجزء الأو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6560" y="549000"/>
            <a:ext cx="7201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3ffff"/>
                </a:solidFill>
                <a:latin typeface="Times New Roman"/>
                <a:cs typeface="FS_Free"/>
              </a:rPr>
              <a:t>لابد من شيء من المخاطرة المحسوبة، من أجل النجاح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7610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f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000" spc="-1" strike="noStrike">
                <a:solidFill>
                  <a:srgbClr val="666699"/>
                </a:solidFill>
                <a:latin typeface="Times New Roman"/>
                <a:cs typeface="Andalus"/>
              </a:rPr>
              <a:t>النصيحة بجمل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جزء الثا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4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4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aff"/>
            </a:gs>
            <a:gs pos="100000">
              <a:srgbClr val="6e73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19280" y="836640"/>
            <a:ext cx="6480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6699"/>
                </a:solidFill>
                <a:latin typeface="Times New Roman"/>
                <a:cs typeface="FS_Free"/>
              </a:rPr>
              <a:t>استرخِ، حتى في أحلك الظرو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195640" y="1844640"/>
            <a:ext cx="45370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e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d9a1"/>
                </a:solidFill>
                <a:latin typeface="Times New Roman"/>
                <a:cs typeface="FS_Free"/>
              </a:rPr>
              <a:t>احرص على العمل بروح الفري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050920" y="1484280"/>
            <a:ext cx="52578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8920" y="620640"/>
            <a:ext cx="712944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FS_Free"/>
              </a:rPr>
              <a:t>نكتة عابرة تشيع البهجة لدى الجمي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692360" y="1484280"/>
            <a:ext cx="583236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79280" y="764640"/>
            <a:ext cx="6481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FS_Free"/>
              </a:rPr>
              <a:t>عبر عن نفسك بطرائق مبتكرة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540072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fff"/>
            </a:gs>
            <a:gs pos="100000">
              <a:srgbClr val="68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19280" y="475920"/>
            <a:ext cx="64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6699"/>
                </a:solidFill>
                <a:latin typeface="Times New Roman"/>
                <a:cs typeface="FS_Free"/>
              </a:rPr>
              <a:t>كن يقظًا </a:t>
            </a:r>
            <a:r>
              <a:rPr b="1" lang="ar-SA" sz="3200" spc="-1" strike="noStrike">
                <a:solidFill>
                  <a:srgbClr val="336699"/>
                </a:solidFill>
                <a:latin typeface="Times New Roman"/>
                <a:cs typeface="FS_Free"/>
              </a:rPr>
              <a:t>دائمًا</a:t>
            </a:r>
            <a:r>
              <a:rPr b="1" lang="ar-SA" sz="2800" spc="-1" strike="noStrike">
                <a:solidFill>
                  <a:srgbClr val="336699"/>
                </a:solidFill>
                <a:latin typeface="Times New Roman"/>
                <a:ea typeface="FS_Free"/>
              </a:rPr>
              <a:t> لمواجهة المفاجآت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08000" y="1557360"/>
            <a:ext cx="511200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360" y="620640"/>
            <a:ext cx="58327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9900"/>
                </a:solidFill>
                <a:latin typeface="Times New Roman"/>
                <a:cs typeface="FS_Free"/>
              </a:rPr>
              <a:t>أشْرِك الآخرين في المغنم أيضً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54738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2f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FS_Free"/>
              </a:rPr>
              <a:t>الأمور الطيبة تحدث للطيبي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348000" y="1844640"/>
            <a:ext cx="25192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FS_Free"/>
              </a:rPr>
              <a:t>ليكن لك من اسمك نصيب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916360" y="1989000"/>
            <a:ext cx="324000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4e89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FS_Free"/>
              </a:rPr>
              <a:t>                              </a:t>
            </a: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FS_Free"/>
              </a:rPr>
              <a:t>الصديق وقت الضيق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536112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00"/>
            </a:gs>
            <a:gs pos="100000">
              <a:srgbClr val="5e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3ffff"/>
                </a:solidFill>
                <a:latin typeface="Times New Roman"/>
                <a:cs typeface="FS_Free"/>
              </a:rPr>
              <a:t>تمسك بأصدقائك الأوفياء، فهم قليلون هذه الأيا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835280" y="1484280"/>
            <a:ext cx="532908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0066"/>
                </a:solidFill>
                <a:latin typeface="Times New Roman"/>
                <a:cs typeface="ALAWI-3-4"/>
              </a:rPr>
              <a:t>تشكرات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bee9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00720" y="259920"/>
            <a:ext cx="41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99"/>
                </a:solidFill>
                <a:latin typeface="Times New Roman"/>
                <a:cs typeface="FS_Free"/>
              </a:rPr>
              <a:t>ثِق في قدراتك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19280" y="1201680"/>
            <a:ext cx="604836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8500"/>
            </a:gs>
            <a:gs pos="100000">
              <a:srgbClr val="6666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43280" y="549360"/>
            <a:ext cx="41040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imes New Roman"/>
                <a:cs typeface="FS_Free"/>
              </a:rPr>
              <a:t>كن شجاعًا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835280" y="1393920"/>
            <a:ext cx="568944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ee9f2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86920" y="1052280"/>
            <a:ext cx="6409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ffaff"/>
                </a:solidFill>
                <a:latin typeface="Times New Roman"/>
                <a:cs typeface="FS_Free"/>
              </a:rPr>
              <a:t>تكيف مع الظروف مهما كانت صعبة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343320" y="1981080"/>
            <a:ext cx="2455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33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50920" y="475920"/>
            <a:ext cx="460836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ffaff"/>
                </a:solidFill>
                <a:latin typeface="Times New Roman"/>
                <a:cs typeface="FS_Free"/>
              </a:rPr>
              <a:t>نوِّع في علاقات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545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95280" y="549360"/>
            <a:ext cx="5329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ffaff"/>
                </a:solidFill>
                <a:latin typeface="Times New Roman"/>
                <a:cs typeface="FS_Free"/>
              </a:rPr>
              <a:t>حافظ على هدوئك، حتى في أصعب المواق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619280" y="1557360"/>
            <a:ext cx="5832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c9fc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7280" y="40428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ffff"/>
                </a:solidFill>
                <a:latin typeface="Times New Roman"/>
                <a:cs typeface="FS_Free"/>
              </a:rPr>
              <a:t>لابأس بشيء من الدعابة، ففي الحياة مايكفي من المنغصات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63640" y="1484280"/>
            <a:ext cx="5904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50560" y="476280"/>
            <a:ext cx="5977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3ffff"/>
                </a:solidFill>
                <a:latin typeface="Times New Roman"/>
                <a:cs typeface="FS_Free"/>
              </a:rPr>
              <a:t>أحب أصدقاءك كما هم، لاكما تريد أنت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655308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s</cp:lastModifiedBy>
  <dcterms:modified xsi:type="dcterms:W3CDTF">2006-05-13T08:30:55Z</dcterms:modified>
  <cp:revision>9</cp:revision>
  <dc:subject/>
  <dc:title>PowerPoint Presentation</dc:title>
</cp:coreProperties>
</file>